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7AA9-5418-4456-B965-35807D4884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81CC-7F6C-4A1B-897A-E9704E469B0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250F-23C6-4E3D-8F4F-BCA1A527F8F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D891-5CFD-4209-BEBD-175AAD243C8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FA8E-2FAE-46BF-BD24-632A4BE7861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98F6-FE59-4EE8-A723-776405BB312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DABD-B1DE-4088-A15F-848A47DAE75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르크스주의자는 신문의 지면을 넘길 때마다 그의 역사 해석을 입증해주는 증거를 발견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뉴스에서뿐만 아니라 그 신문의 계급적 편향을 드러내는 보도 자료에서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특히 그 신문이 말하지 않은 것에서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C0CB-4155-477A-808C-7BB7197E8F3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FF06-D1E6-4C59-80B7-7EBC696D316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A016-4851-4345-ACDE-54A5D9A94A6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4DF5-0F5C-4892-A635-C51DF8431DC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반증되지 않은 가설이나 이론은 용인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2471-3378-4F21-8A07-D6BC177DACB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6C08-5E67-4EE3-BADE-E489063B4A5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제대로 된 답변이라고 할 수 있을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더 성공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덜 성공적이란 평가는 어떻게 가능한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말 우리는 반증을 시키기 위해 시험을 고안하는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야 하는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58D7-A684-4D8A-8194-AFE6AB42083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페르니쿠스의 해법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주가 지구와 태양 사이의 거리를 무시할 정도로 엄청나게 크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페르니쿠스의 해법을 비난할 수 있을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5E69-90E9-4325-AB6A-865CDB8728F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E926-7C78-467C-A4DB-47181F7DA9A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람들의 생각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별 관심 없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_-;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밀성의 관심을 가진 사람의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성 안쪽에 혹시 우리가 모르는 행성이 있는 것이 아닐까 추측하기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AEBE-89AD-4736-BD7D-F99D0395CA1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Nineteenth century astronomy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Newtonian physics failed to predict the orbit of planet Uranu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Astronomers hypothesized another planet perturbing the orbit of Uranu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Planet Neptune discovered in 1846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So, Newton</a:t>
            </a:r>
            <a:r>
              <a:rPr b="0" lang="en-GB" sz="1200" spc="-1" strike="noStrike">
                <a:solidFill>
                  <a:srgbClr val="eef9f4"/>
                </a:solidFill>
                <a:latin typeface="맑은 고딕"/>
                <a:ea typeface="굴림"/>
              </a:rPr>
              <a:t>’</a:t>
            </a: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s theory</a:t>
            </a:r>
            <a:r>
              <a:rPr b="0" i="1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 saved from falsification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31D0-17D7-4E86-9E5B-AFCF004C3ED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Does our scientist abandon Newt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s theory and his idea of a perturbing planet? No. He suggests that a cloud of cosmic dust hides the planet from us. He calculates the location and properties of this cloud and asks for a research grant (and so 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86AA-814E-4C75-AF34-5E548C9A86D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f9f4"/>
                </a:solidFill>
                <a:latin typeface="Arial"/>
                <a:ea typeface="굴림"/>
              </a:rPr>
              <a:t>Pierre Duhem, </a:t>
            </a:r>
            <a:r>
              <a:rPr b="0" i="1" lang="en-US" sz="1200" spc="-1" strike="noStrike">
                <a:solidFill>
                  <a:srgbClr val="eef9f4"/>
                </a:solidFill>
                <a:latin typeface="Arial"/>
                <a:ea typeface="굴림"/>
              </a:rPr>
              <a:t>The Aim and Structure of Physical Theory </a:t>
            </a:r>
            <a:r>
              <a:rPr b="0" lang="en-US" sz="1200" spc="-1" strike="noStrike">
                <a:solidFill>
                  <a:srgbClr val="eef9f4"/>
                </a:solidFill>
                <a:latin typeface="Arial"/>
                <a:ea typeface="굴림"/>
              </a:rPr>
              <a:t>1904-5, p. 183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2369-9C76-4A4B-8759-41B6CA5BEAD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751E-113C-4FD1-B616-F2187513F0F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D47F-B6C3-4159-86DD-6ED2B4DA0B8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A0E5-33E4-4E5C-9A32-E205B912B12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345A-45EA-4CD4-905B-42703576EC1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D2A6-8533-46DC-9BAD-6C518DB1C04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441B-B225-42B7-A752-9B0CDB9C019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29A3-21BD-479F-B057-7A9B6B58CC1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beef4"/>
                </a:solidFill>
                <a:latin typeface="Arial"/>
                <a:ea typeface="굴림"/>
              </a:rPr>
              <a:t>From Vienna, Austria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beef4"/>
                </a:solidFill>
                <a:latin typeface="Arial"/>
                <a:ea typeface="굴림"/>
              </a:rPr>
              <a:t>Moved to UK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beef4"/>
                </a:solidFill>
                <a:latin typeface="Arial"/>
                <a:ea typeface="굴림"/>
              </a:rPr>
              <a:t>One of the most influential philosophers of science of the 20</a:t>
            </a:r>
            <a:r>
              <a:rPr b="0" lang="en-GB" sz="1200" spc="-1" strike="noStrike" baseline="30000">
                <a:solidFill>
                  <a:srgbClr val="dbeef4"/>
                </a:solidFill>
                <a:latin typeface="Arial"/>
                <a:ea typeface="굴림"/>
              </a:rPr>
              <a:t>th</a:t>
            </a:r>
            <a:r>
              <a:rPr b="0" lang="en-GB" sz="1200" spc="-1" strike="noStrike">
                <a:solidFill>
                  <a:srgbClr val="dbeef4"/>
                </a:solidFill>
                <a:latin typeface="Arial"/>
                <a:ea typeface="굴림"/>
              </a:rPr>
              <a:t> century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1578-5AA1-47C0-B4EB-DEACDE6B823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7D34-1217-4B19-B6B2-904B31FF1AE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DA4-5C2B-454F-866C-8E716067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F52-0C74-4B78-8EF7-FF66788C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8859-9B98-46F8-A9DA-9779E806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429-8E0E-40FF-84AB-D572DDB7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855-8C35-4DB7-8129-A5795B5D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29E-3227-499B-BB64-99B55401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483-1C04-4D67-AFD9-DEEBBAD1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752-B411-4F93-9ABB-82720857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885-2CDB-4245-A25D-4F0B9C40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FE6-B311-42E4-92A8-F32B9516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79C-4EE8-449F-A1F6-1B098A16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E52-1E40-44D0-A6EE-58AEC5AF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7C93-BB4D-4631-A79A-BF6492CD7F9E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buecher-wiki.de/uploads/BuecherWiki/popper.jpg"/>
          <p:cNvPicPr/>
          <p:nvPr/>
        </p:nvPicPr>
        <p:blipFill>
          <a:blip r:embed="rId1"/>
          <a:stretch/>
        </p:blipFill>
        <p:spPr>
          <a:xfrm>
            <a:off x="-1682640" y="0"/>
            <a:ext cx="10826640" cy="11404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24320" y="4076280"/>
            <a:ext cx="30193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반증주의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의 문제 회피 불가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해법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을 사용하지 말 것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다시 논리학으로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하얗지 않은 백조가 시간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장소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x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에 있었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따라서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모든 백조가 하얗지는 않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en-US" sz="3200" spc="-1" strike="noStrike">
                <a:solidFill>
                  <a:srgbClr val="00b050"/>
                </a:solidFill>
                <a:latin typeface="Georgia"/>
              </a:rPr>
              <a:t>✔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타당한 연역 논증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포퍼의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반증주의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의 핵심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가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연역주의와 </a:t>
            </a:r>
            <a:r>
              <a:rPr b="1" lang="ko-KR" sz="4000" spc="-1" strike="noStrike">
                <a:solidFill>
                  <a:srgbClr val="ff0000"/>
                </a:solidFill>
                <a:latin typeface="Trebuchet MS"/>
              </a:rPr>
              <a:t>반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982240" y="1989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가설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2982240" y="3645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예측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5513760" y="36561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관찰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3693960" y="278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연역적 도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211640" y="4005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비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85" name="직선 화살표 연결선 8"/>
          <p:cNvCxnSpPr>
            <a:stCxn id="80" idx="2"/>
            <a:endCxn id="81" idx="0"/>
          </p:cNvCxnSpPr>
          <p:nvPr/>
        </p:nvCxnSpPr>
        <p:spPr>
          <a:xfrm flipH="1">
            <a:off x="3269880" y="2482920"/>
            <a:ext cx="2160" cy="116424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86" name="직선 화살표 연결선 9"/>
          <p:cNvCxnSpPr/>
          <p:nvPr/>
        </p:nvCxnSpPr>
        <p:spPr>
          <a:xfrm>
            <a:off x="3708000" y="3933360"/>
            <a:ext cx="1656360" cy="2520"/>
          </a:xfrm>
          <a:prstGeom prst="straightConnector1">
            <a:avLst/>
          </a:prstGeom>
          <a:ln w="28440">
            <a:solidFill>
              <a:srgbClr val="ffc000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87" name="텍스트 개체 틀 26"/>
          <p:cNvSpPr/>
          <p:nvPr/>
        </p:nvSpPr>
        <p:spPr>
          <a:xfrm>
            <a:off x="722160" y="479736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예측과 일치하지 않은 관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가설의 반증 </a:t>
            </a:r>
            <a:r>
              <a:rPr b="0" lang="en-US" sz="2600" spc="-1" strike="noStrike">
                <a:solidFill>
                  <a:srgbClr val="00b050"/>
                </a:solidFill>
                <a:latin typeface="굴림"/>
              </a:rPr>
              <a:t>✔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구획의 기준으로서 반증가능성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Georgia"/>
              </a:rPr>
              <a:t>반증가능한 진술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413000"/>
            <a:ext cx="4040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월요일마다 비가 온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모든 금속은 가열하면 팽창한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임의의 두 물체 사이에 작용하는 중력은 두 질량의 곱에 비례하고 그들 사이의 거리의 제곱에 반비례한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4720" y="691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Georgia"/>
              </a:rPr>
              <a:t>반증불가능한 진술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4720" y="1413000"/>
            <a:ext cx="4041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비가 오거나 오지 않는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모든 총각은 결혼하지 않은 사람이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Georgia"/>
              </a:rPr>
              <a:t>게자리 </a:t>
            </a:r>
            <a:r>
              <a:rPr b="1" lang="en-US" sz="24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슬픔과 기쁨이 동시에 일어납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설명하기 애매한 상황이 당신을 기다리고 있을 것 같군요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슬픔과 기쁨이 동시에 일어난다는 것은 아주 격한 감정일 수도 있고 무미건조에 가까운 약한 감정일 수도 있습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의심스러운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경험적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 이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마르크스의 역사 이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로이트의 정신분석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들러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개인심리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 공통된 특징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엄청난 입증 사례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퍼에 따르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들 이론은 사이비 과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적 이론은 위험을 감수하는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대담한 추측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6" name="Picture 2" descr="http://t3.gstatic.com/images?q=tbn:ANd9GcQvuj5Yaoy_ixZvbfAeHKVrmuSlrf2JKtacCy8dQ89C47QF6A_iUg"/>
          <p:cNvPicPr/>
          <p:nvPr/>
        </p:nvPicPr>
        <p:blipFill>
          <a:blip r:embed="rId1"/>
          <a:stretch/>
        </p:blipFill>
        <p:spPr>
          <a:xfrm>
            <a:off x="1547640" y="549360"/>
            <a:ext cx="1971720" cy="231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t2.gstatic.com/images?q=tbn:ANd9GcRIxNsQQDGG_Dy15GcPauSkMOUZMTePrV3SxlfT1aWSI65X6TT92Q"/>
          <p:cNvPicPr/>
          <p:nvPr/>
        </p:nvPicPr>
        <p:blipFill>
          <a:blip r:embed="rId2"/>
          <a:srcRect l="8898" t="0" r="17776" b="34867"/>
          <a:stretch/>
        </p:blipFill>
        <p:spPr>
          <a:xfrm>
            <a:off x="3708360" y="549360"/>
            <a:ext cx="1900440" cy="230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796000" y="549360"/>
            <a:ext cx="1800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과학적 진보 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=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추측과 논박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어떤 문제의 제기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대담한 추측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이론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가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의 발견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고안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연역적 예측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예측된 현상과 모순된 관찰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추측의 반증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새로운 대담한 추측의 발견과 </a:t>
            </a:r>
            <a:br>
              <a:rPr sz="3200"/>
            </a:b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그에 대해 또다시 반증 시도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추측이 반증되지 않았다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용인된 가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corroborated hypothesis)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22160" y="62064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‘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과학적 이론은 절대로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‘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정당화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’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되거나 검증될 수 없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그러나 이에도 불구하고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특정한 조건 하에서 어떤 가설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는 가설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보다 더 많은 것을 이룰 수 있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이는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가 어떤 관찰 결과와 모순되어 그에 의해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‘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반증된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’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반면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, A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는 반증되지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않았기 때문일 수도 있고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혹은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보다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에 의해 더 많은 수의 예측이 도출될 수 있기 때문일 수도 있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한 가설에 대해 우리가 말할 수 있는 최선은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지금까지 그 가설이 그 가치를 보여줄 수 있었고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그 가설이 다른 가설보다 더 성공적이었다는 것이며 그럼에도 원리적으로는 그 가설이 정당화될 수도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검증될 수도 없으며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심지어는 개연적인 것으로 보여줄 수도 없다는 것이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가설에 대한 이러한 평가는 오로지 그 가설로부터 도출될 수 있는 연역적 귀결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예측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에만 의지한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귀납은 언급조차 할 필요가 없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’ (K. R. Popper, ‘On the So-Called ‘Logic of Induction’ and the ‘Probability of Hypotheses’, E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rkenntnis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5 (1935) pp. 170ff; reproduced in 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The Logic of Scientific Discovery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, Hutchinson, 1959, p. 315)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문제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 : ‘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용인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된 이론의 성격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퍼도 귀납의 역할을 인정하는 것인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복습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단칭 관찰 진술로부터 보편 진술의 도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보편 진술의 참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확률적 참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보장될 수 없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포퍼의 답변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용인된 가설을 반증할 더욱 가혹한 시험을 고안하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문제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 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반증된 채 태어난 이론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코페르니쿠스의 연주시차 문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5300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태양중심설은 연주시차를 예측하지만 관측되지 않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코페르니쿠스의 태양중심설은 반증되었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2" name="Picture 2" descr="http://www.astro.lu.se/~anna/teaching/parallax/parallax.JPG"/>
          <p:cNvPicPr/>
          <p:nvPr/>
        </p:nvPicPr>
        <p:blipFill>
          <a:blip r:embed="rId1"/>
          <a:stretch/>
        </p:blipFill>
        <p:spPr>
          <a:xfrm>
            <a:off x="2535120" y="0"/>
            <a:ext cx="4124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수성의 세차 운동 문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5229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뉴턴의 역학 이론은 반증되었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5" name="Picture 2" descr="http://nucl-a.inha.ac.kr/physics/sphys/main/7-4-1.gif"/>
          <p:cNvPicPr/>
          <p:nvPr/>
        </p:nvPicPr>
        <p:blipFill>
          <a:blip r:embed="rId1"/>
          <a:stretch/>
        </p:blipFill>
        <p:spPr>
          <a:xfrm>
            <a:off x="1403280" y="476280"/>
            <a:ext cx="6481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해왕성의 발견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846)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뉴턴 역학에 기초한 천왕성의 궤도 예측 실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패 구제를 위해 새로운 행성의 존재 추측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439596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만약 행성이 발견되지 않았다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천체 물리학자가 취해야 할 행동은 무엇일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뒤앙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콰인 논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리학의 실험이 폐기시킬 수 있는 것은 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an isolated hypothesis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 아닌 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whole theoretical group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뿐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Pierre Duhem, </a:t>
            </a:r>
            <a:r>
              <a:rPr b="0" i="1" lang="en-US" sz="2000" spc="-1" strike="noStrike">
                <a:solidFill>
                  <a:srgbClr val="ffc000"/>
                </a:solidFill>
                <a:latin typeface="Georgia"/>
              </a:rPr>
              <a:t>The Aim and Structure </a:t>
            </a:r>
            <a:br>
              <a:rPr sz="2000"/>
            </a:br>
            <a:r>
              <a:rPr b="0" i="1" lang="en-US" sz="2000" spc="-1" strike="noStrike">
                <a:solidFill>
                  <a:srgbClr val="ffc000"/>
                </a:solidFill>
                <a:latin typeface="Georgia"/>
              </a:rPr>
              <a:t>of Physical Theory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, 1904-5, p. 183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419640" y="333360"/>
            <a:ext cx="22096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듀앙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콰인 논제와 </a:t>
            </a:r>
            <a:r>
              <a:rPr b="1" lang="ko-KR" sz="4000" spc="-1" strike="noStrike">
                <a:solidFill>
                  <a:srgbClr val="ff0000"/>
                </a:solidFill>
                <a:latin typeface="Trebuchet MS"/>
              </a:rPr>
              <a:t>반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2589120" y="1989000"/>
            <a:ext cx="493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[ </a:t>
            </a: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가설 </a:t>
            </a:r>
            <a:r>
              <a:rPr b="1" lang="en-US" sz="2600" spc="-1" strike="noStrike">
                <a:solidFill>
                  <a:srgbClr val="95b3d7"/>
                </a:solidFill>
                <a:latin typeface="맑은 고딕"/>
                <a:ea typeface="맑은 고딕"/>
              </a:rPr>
              <a:t>+ </a:t>
            </a:r>
            <a:r>
              <a:rPr b="1" lang="ko-KR" sz="2600" spc="-1" strike="noStrike">
                <a:solidFill>
                  <a:srgbClr val="95b3d7"/>
                </a:solidFill>
                <a:latin typeface="맑은 고딕"/>
                <a:ea typeface="맑은 고딕"/>
              </a:rPr>
              <a:t>초기조건</a:t>
            </a:r>
            <a:r>
              <a:rPr b="1" lang="en-US" sz="2600" spc="-1" strike="noStrike">
                <a:solidFill>
                  <a:srgbClr val="95b3d7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95b3d7"/>
                </a:solidFill>
                <a:latin typeface="맑은 고딕"/>
                <a:ea typeface="맑은 고딕"/>
              </a:rPr>
              <a:t>보조가설들 </a:t>
            </a:r>
            <a:r>
              <a:rPr b="1" lang="en-US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]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982240" y="3645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예측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513760" y="36561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관찰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93960" y="278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연역적 도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4211640" y="4005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비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30" name="직선 화살표 연결선 8"/>
          <p:cNvCxnSpPr>
            <a:endCxn id="126" idx="0"/>
          </p:cNvCxnSpPr>
          <p:nvPr/>
        </p:nvCxnSpPr>
        <p:spPr>
          <a:xfrm flipH="1">
            <a:off x="3271320" y="2565000"/>
            <a:ext cx="5760" cy="108036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1" name="직선 화살표 연결선 9"/>
          <p:cNvCxnSpPr/>
          <p:nvPr/>
        </p:nvCxnSpPr>
        <p:spPr>
          <a:xfrm>
            <a:off x="3708000" y="3933360"/>
            <a:ext cx="1656360" cy="2520"/>
          </a:xfrm>
          <a:prstGeom prst="straightConnector1">
            <a:avLst/>
          </a:prstGeom>
          <a:ln w="28440">
            <a:solidFill>
              <a:srgbClr val="ffc000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132" name="텍스트 개체 틀 26"/>
          <p:cNvSpPr/>
          <p:nvPr/>
        </p:nvSpPr>
        <p:spPr>
          <a:xfrm>
            <a:off x="722160" y="479736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관찰이 예측과 일치하지 않았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,</a:t>
            </a:r>
            <a:br>
              <a:rPr sz="2600"/>
            </a:br>
            <a:r>
              <a:rPr b="1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[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그룹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]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에서 반증된 것은 무엇일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칼 포퍼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〈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귀납의 문제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〉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추측과 논박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》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 일부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질문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퍼는 귀납의 문제로부터 자유로운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론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설명력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 오히려 해가 될 수 있다고 생각한 포퍼의 이유는 무엇인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퍼를 감명시킨 과학 이론은 무엇이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는 무엇 때문에 그 이론이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적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라고 생각했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퍼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협약주의적 왜곡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란 개념을 통해 하고자 하는 말은 무엇인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구획 문제에 대한 포퍼의 답변에 동의하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복습 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귀납 추론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…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__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결론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든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X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1152360" cy="86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992920" y="3267000"/>
            <a:ext cx="118260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복습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가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연역주의와 검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982240" y="1989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가설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2982240" y="3645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예측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513760" y="36561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관찰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693960" y="278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연역적 도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4211640" y="4005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비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62" name="직선 화살표 연결선 8"/>
          <p:cNvCxnSpPr>
            <a:stCxn id="57" idx="2"/>
            <a:endCxn id="58" idx="0"/>
          </p:cNvCxnSpPr>
          <p:nvPr/>
        </p:nvCxnSpPr>
        <p:spPr>
          <a:xfrm flipH="1">
            <a:off x="3269880" y="2482920"/>
            <a:ext cx="2160" cy="116424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3" name="직선 화살표 연결선 9"/>
          <p:cNvCxnSpPr/>
          <p:nvPr/>
        </p:nvCxnSpPr>
        <p:spPr>
          <a:xfrm>
            <a:off x="3708000" y="3933360"/>
            <a:ext cx="1656360" cy="2520"/>
          </a:xfrm>
          <a:prstGeom prst="straightConnector1">
            <a:avLst/>
          </a:prstGeom>
          <a:ln w="28440">
            <a:solidFill>
              <a:srgbClr val="ffc000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64" name="텍스트 개체 틀 26"/>
          <p:cNvSpPr/>
          <p:nvPr/>
        </p:nvSpPr>
        <p:spPr>
          <a:xfrm>
            <a:off x="722160" y="479736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가설로부터 예측한 현상의 관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가설의 검증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충분히 많고 다양한 검증은 가설의 참을 의미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  <a:ea typeface="맑은 고딕"/>
              </a:rPr>
              <a:t>X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03280" y="2276280"/>
            <a:ext cx="7283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검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검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검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_______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가설은 검증되었으며 따라서 참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X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복습 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가설의 개연적 참과 입증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8000" y="1700280"/>
            <a:ext cx="677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입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입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입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_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가설은 입증되었으며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확률적으로 참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X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복습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귀납의 문제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질문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귀납은 정당화될 수 있는가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답변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귀납은 정당화될 수 없는 것 같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경험에 호소하게 된다면 결국 귀납에 의존할 수밖에 없기 때문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이 문제를 어떻게 없앨 수 있을까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칼 포퍼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902-1994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717640" y="512640"/>
            <a:ext cx="372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포퍼의 문제의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의 문제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구획의 문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4:36:22Z</dcterms:created>
  <dc:creator>zolaist</dc:creator>
  <dc:description/>
  <dc:language>en-US</dc:language>
  <cp:lastModifiedBy>zolaist</cp:lastModifiedBy>
  <dcterms:modified xsi:type="dcterms:W3CDTF">2011-04-14T03:10:21Z</dcterms:modified>
  <cp:revision>25</cp:revision>
  <dc:subject/>
  <dc:title>반증주의(Falsificationism)</dc:title>
</cp:coreProperties>
</file>